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43891200"/>
  <p:notesSz cx="32461200" cy="4342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2461200" cy="434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8385920" y="-36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5000" y="3255480"/>
            <a:ext cx="12211200" cy="162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246480" y="20624400"/>
            <a:ext cx="25968240" cy="195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41243400"/>
            <a:ext cx="14067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8385920" y="41243400"/>
            <a:ext cx="14067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2367-7099-4517-B930-9C79D55F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18386280" y="41243400"/>
            <a:ext cx="1406700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5B0-31C3-4742-8E85-3C0DAD66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0125000" y="3255840"/>
            <a:ext cx="12211200" cy="162831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246480" y="20624400"/>
            <a:ext cx="25968240" cy="195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844-6C30-49A4-A0A1-5783CCFE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296258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25371000"/>
            <a:ext cx="296258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84D-B184-4F8B-B30B-6210A37B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726-5166-4FB6-BE73-0D0A7237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1024092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1024092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2537100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2537100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2537100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42A-3EC1-4120-8518-E3DF94F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10240920"/>
            <a:ext cx="29625840" cy="28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5A8-A221-4BB0-BA66-6E74FB8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296258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267-1DAD-4FEF-AF49-8C2AB65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58D-FB5B-4E76-9663-13069FC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4AE-12DE-4D88-8AC1-08604B7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757520"/>
            <a:ext cx="296258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CCD-096E-4809-93C5-EF599A6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0CF-6D06-48AD-BFB3-8BB5BFC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CC1-F287-423E-A28D-84ECD59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25371000"/>
            <a:ext cx="296258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2A5-6882-45EE-841E-9304006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10240920"/>
            <a:ext cx="296258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39969720"/>
            <a:ext cx="7680240" cy="30481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39969720"/>
            <a:ext cx="10423440" cy="30481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39969720"/>
            <a:ext cx="7680240" cy="30481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D4B-06D7-47E1-B24B-8C384D06C4E0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14600" y="16916400"/>
            <a:ext cx="792468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replace with photo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your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ction or 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t of student learning data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133720" y="3809880"/>
            <a:ext cx="19278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Title of your HP Technology for Teaching project</a:t>
            </a: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Oval 6"/>
          <p:cNvSpPr/>
          <p:nvPr/>
        </p:nvSpPr>
        <p:spPr>
          <a:xfrm>
            <a:off x="23393520" y="1981080"/>
            <a:ext cx="6933960" cy="6934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&lt;replace with y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mpus logo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64520" y="7162920"/>
            <a:ext cx="1180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&lt;School Name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&lt;City, State, Country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&lt;Team Members – (name and role)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362320" y="10287000"/>
            <a:ext cx="2895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PROJECT OVERVIEW: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&lt;3-4 sentence project overview; this should be a short version of the project overview in your project plan  - This is your "elevator speech", as it were - that describes your project in 30 seconds or less. It can begin with: We’re using HP technology to .... &lt;describe the focus of your work; emphasize the key activities, the specific uses of HP technology and the intended impact on students; intended impact on teaching.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1201400" y="16459200"/>
            <a:ext cx="1990404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mpact on Student Learning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has student learning been improved as a result of your projec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lace this paragraph with a brief description of the specific measurable outcomes you have observed relative to improvements in student learning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Starting Point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- &lt;what has student learning/achievement looked like in the past?&gt; &lt;you may refer to significant elements in the baseline student data you collected at the beginning of the project&gt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Today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- &lt;what level of student achievement is currently evidenced in the area you chose for your project focus ?&gt;&lt;What measurable difference can you point to in the nature of student learning&gt;&lt;What has changed?&gt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Comparison Grou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- &lt;How does this compare to what you would expect or what you saw in the comparison group data from classrooms not involved in the project?&gt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362320" y="26974800"/>
            <a:ext cx="1196316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mpact on Teaching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has teaching been improved as a result of your projec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what has changed in teaching approaches and methods as a result of your project?&gt;&lt;what has changed in teacher capacity to effectively integrate technology into instruction?&gt;&lt;what evidence do you have of these changes in teaching?&gt;&lt;you may refer to significant elements of the data you collected at the beginning and near the end of your project&gt;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6611480" y="27127080"/>
            <a:ext cx="132746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mpact of HP Technology Tool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particular applications of the HP technology have had the most impact on teaching and learning in your classroom?  Choose one or two examples to describe 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2438280" y="34975800"/>
            <a:ext cx="1165860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replace with photo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your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ction and/or quotes from teac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acted by your work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17449920" y="34975800"/>
            <a:ext cx="1165860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replace with photo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your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ction and/or quotes highlight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use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590920" y="41605200"/>
            <a:ext cx="27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Printed on an HP DesignJet Printer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32:48Z</dcterms:created>
  <dc:creator>Jim Vanides</dc:creator>
  <dc:description/>
  <dc:language>en-US</dc:language>
  <cp:lastModifiedBy>Linda Keller</cp:lastModifiedBy>
  <dcterms:modified xsi:type="dcterms:W3CDTF">2009-04-15T15:34:26Z</dcterms:modified>
  <cp:revision>16</cp:revision>
  <dc:subject/>
  <dc:title>Slide 1</dc:title>
</cp:coreProperties>
</file>